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png" ContentType="image/pn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C6F-D12F-4C09-8869-A0ED46ED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C5F-2B46-45F5-AACA-0CF1F7E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7B6-1897-40FD-861C-A8D67819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EDE-B9A9-4BDE-852B-717FAE9C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509-DDE9-47F5-89C9-4AC94306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5F2-5683-4537-8E65-213B971B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BC6-FF9E-499A-8E77-1F4EC48A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8A1-16E1-4C6E-85B9-BB27A7AC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80D-7CF4-4FC2-8BEE-756F5FB9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344-5A91-4BC5-A5C8-73BD8E48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F16-C566-4F9B-99CD-3FB2AFA3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6EC-569B-4B2F-9DE1-E6BE1BD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BFC2-3883-4C4D-8218-4F6F6F2EC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4.gif"/><Relationship Id="rId11" Type="http://schemas.openxmlformats.org/officeDocument/2006/relationships/image" Target="../media/image2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10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4.gif"/><Relationship Id="rId11" Type="http://schemas.openxmlformats.org/officeDocument/2006/relationships/image" Target="../media/image2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base.com/digitales/spanj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396108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268280"/>
            <a:ext cx="813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itar la destruc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n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ace falta reciclar botellas y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 debemos destruir nuestro plan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 el futuro reciclaremos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Que será, s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ace falta apagar la 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¿Qué tal los deberes sobre el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2920" y="486900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s verdur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7628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a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84360" y="1109520"/>
            <a:ext cx="50403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arroz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2814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000" y="4869000"/>
            <a:ext cx="64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ensalad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0958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486900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s salchich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alchichas al vino"/>
          <p:cNvPicPr/>
          <p:nvPr/>
        </p:nvPicPr>
        <p:blipFill>
          <a:blip r:embed="rId1"/>
          <a:stretch/>
        </p:blipFill>
        <p:spPr>
          <a:xfrm>
            <a:off x="3143160" y="652320"/>
            <a:ext cx="4884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oll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21028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4869000"/>
            <a:ext cx="770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2610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1800000" cy="1257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salchichas al vino"/>
          <p:cNvPicPr/>
          <p:nvPr/>
        </p:nvPicPr>
        <p:blipFill>
          <a:blip r:embed="rId3"/>
          <a:stretch/>
        </p:blipFill>
        <p:spPr>
          <a:xfrm>
            <a:off x="2627280" y="3789360"/>
            <a:ext cx="1716120" cy="1378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089080" cy="1266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944720" cy="1676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158920" cy="131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68360" y="1989000"/>
            <a:ext cx="1655640" cy="18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763640" cy="164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4859280" y="33336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Jamon Serano,  Pata Negra"/>
          <p:cNvPicPr/>
          <p:nvPr/>
        </p:nvPicPr>
        <p:blipFill>
          <a:blip r:embed="rId11"/>
          <a:stretch/>
        </p:blipFill>
        <p:spPr>
          <a:xfrm>
            <a:off x="2484360" y="6206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324000" y="476280"/>
            <a:ext cx="1942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61040" cy="3511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08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08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Jamon Serano,  Pata Negra"/>
          <p:cNvPicPr/>
          <p:nvPr/>
        </p:nvPicPr>
        <p:blipFill>
          <a:blip r:embed="rId1"/>
          <a:stretch/>
        </p:blipFill>
        <p:spPr>
          <a:xfrm>
            <a:off x="4397400" y="3068640"/>
            <a:ext cx="4746600" cy="3560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08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08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basic phrases to describe the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mark together the future tense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evise how to form the future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revise basic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learn 12 basic foods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find out what each other likes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7) To find out how to use the verb “gust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8) To write about each other’s eat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2017800" cy="1739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108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08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1942920" cy="1522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08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4" dur="108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020000" y="206064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1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5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0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77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0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115272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Jamon Serano,  Pata Negra"/>
          <p:cNvPicPr/>
          <p:nvPr/>
        </p:nvPicPr>
        <p:blipFill>
          <a:blip r:embed="rId2"/>
          <a:stretch/>
        </p:blipFill>
        <p:spPr>
          <a:xfrm>
            <a:off x="826920" y="20606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salchichas al vino"/>
          <p:cNvPicPr/>
          <p:nvPr/>
        </p:nvPicPr>
        <p:blipFill>
          <a:blip r:embed="rId3"/>
          <a:stretch/>
        </p:blipFill>
        <p:spPr>
          <a:xfrm>
            <a:off x="826920" y="3141720"/>
            <a:ext cx="1152720" cy="925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4859280" y="1125360"/>
            <a:ext cx="1368360" cy="912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4859280" y="2205000"/>
            <a:ext cx="1511280" cy="916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4859280" y="3141720"/>
            <a:ext cx="1297080" cy="1212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468360" y="422100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4932360" y="4451400"/>
            <a:ext cx="13683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0"/>
            <a:ext cx="8964720" cy="71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a co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(f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chifla(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really really li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encanta(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realy li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 ensalad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sal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gusta(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li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 fru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fr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da(n) ig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don’t mi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 car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e gusta(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don’t li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s huev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i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h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s salchich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sausag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que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chee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s verdur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rro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¿Qué te gusta co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ja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ha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pesca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fi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p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b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oll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chi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419640" y="4869000"/>
          <a:ext cx="5545080" cy="17287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6681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r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50920" y="0"/>
            <a:ext cx="3889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na persona le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s personas l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na persona le gust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s personas l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ust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ie o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s personas odi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71280"/>
            <a:ext cx="4105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body 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person 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eople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person 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eople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body h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eople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4149720"/>
            <a:ext cx="7775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me gusta EXACT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is pleasing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“it” be used to describe more than 1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does the “le” mean? Can that refer to more than 1 per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0"/>
            <a:ext cx="864072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ust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i m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 t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 / ella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him /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ol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no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sotros / as no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osotros / as o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los / ellas le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es le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l. po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_ gust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for plur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6221520"/>
            <a:ext cx="820872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write up the results of you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m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89000"/>
            <a:ext cx="835344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uture tense is normally translated in English by the boy’s name 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uses a series of endings which you put on the _____ of the infin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3 types of infinitive, ____ , ____ and 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nding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o not change for the different infinitive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ndings for the future are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 / she /it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polite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(pl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(plural, polite)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47628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98100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844640"/>
            <a:ext cx="7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1844640"/>
            <a:ext cx="7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1844640"/>
            <a:ext cx="7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234936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ge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321300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364500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16720" y="40766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45086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4941720"/>
            <a:ext cx="107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537372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573408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80360" y="616572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1800000" cy="12574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salchichas al vino"/>
          <p:cNvPicPr/>
          <p:nvPr/>
        </p:nvPicPr>
        <p:blipFill>
          <a:blip r:embed="rId3"/>
          <a:stretch/>
        </p:blipFill>
        <p:spPr>
          <a:xfrm>
            <a:off x="2627280" y="3789360"/>
            <a:ext cx="1716120" cy="1378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089080" cy="1266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944720" cy="1676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158920" cy="1315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468360" y="1989000"/>
            <a:ext cx="1655640" cy="1830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763640" cy="1649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4859280" y="33336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Jamon Serano,  Pata Negra"/>
          <p:cNvPicPr/>
          <p:nvPr/>
        </p:nvPicPr>
        <p:blipFill>
          <a:blip r:embed="rId11"/>
          <a:stretch/>
        </p:blipFill>
        <p:spPr>
          <a:xfrm>
            <a:off x="2484360" y="6206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324000" y="476280"/>
            <a:ext cx="1942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m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ques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81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jam</a:t>
            </a:r>
            <a:r>
              <a:rPr b="0" lang="en-GB" sz="9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Jamon Serano,  Pata Neg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46600" cy="3560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3591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escad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200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carn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52720" y="1407960"/>
            <a:ext cx="37800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frut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09840" y="620640"/>
            <a:ext cx="33638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57:49Z</dcterms:created>
  <dc:creator>Owner1</dc:creator>
  <dc:description/>
  <dc:language>en-US</dc:language>
  <cp:lastModifiedBy>Owner1</cp:lastModifiedBy>
  <dcterms:modified xsi:type="dcterms:W3CDTF">2008-10-22T10:35:49Z</dcterms:modified>
  <cp:revision>9</cp:revision>
  <dc:subject/>
  <dc:title>Slide 1</dc:title>
</cp:coreProperties>
</file>